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216C-8B02-4C51-9AFC-B00ACE473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E6F7-5C27-4246-8BC4-BB5249650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EB4C-A992-4F2E-B51D-F51DF220C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4297-CF9B-4DE0-9282-B82748A2E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F136-6BE3-40C0-A1BD-8CC5A596E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585B-3FC9-4858-94C1-A3BDD6343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442F-6715-46F0-BC10-48645D133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B38E-7E4D-4A68-B34C-AC3362A5D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3528-EEBF-443A-AF65-6D9B72DEC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3C83-B30B-4C92-8FEA-CC10D769E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DC6E-18A9-4230-BF94-33848C607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F2F8-FD16-4E8A-BA9A-ED14160B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EC917-417E-4665-BE25-51538BC1DE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071880" y="28584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 Black"/>
              </a:rPr>
              <a:t>ОПРЕД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1714680" y="928800"/>
            <a:ext cx="414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СУЩ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ЛИЧН. МЕСТ.  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КАКОЙ? ЧЕ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1928880" y="78588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Выгнутая вверх стрелка 6"/>
          <p:cNvSpPr/>
          <p:nvPr/>
        </p:nvSpPr>
        <p:spPr>
          <a:xfrm rot="196800">
            <a:off x="2589120" y="771480"/>
            <a:ext cx="2000520" cy="642960"/>
          </a:xfrm>
          <a:custGeom>
            <a:avLst/>
            <a:gdLst>
              <a:gd name="textAreaLeft" fmla="*/ 434520 w 2000520"/>
              <a:gd name="textAreaRight" fmla="*/ 1464480 w 2000520"/>
              <a:gd name="textAreaTop" fmla="*/ 86040 h 642960"/>
              <a:gd name="textAreaBottom" fmla="*/ 556920 h 642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383" hR="21600" stAng="10800000" swAng="5400000"/>
                <a:lnTo>
                  <a:pt x="11119" y="0"/>
                </a:lnTo>
                <a:arcTo wR="9383" hR="21600" stAng="-5400000" swAng="3556328"/>
                <a:lnTo>
                  <a:pt x="21302" y="16200"/>
                </a:lnTo>
                <a:lnTo>
                  <a:pt x="19633" y="21600"/>
                </a:lnTo>
                <a:lnTo>
                  <a:pt x="17368" y="16200"/>
                </a:lnTo>
                <a:lnTo>
                  <a:pt x="18467" y="16200"/>
                </a:lnTo>
                <a:arcTo wR="9383" hR="21600" stAng="-1843672" swAng="-3417661"/>
                <a:lnTo>
                  <a:pt x="10251" y="93"/>
                </a:lnTo>
                <a:arcTo wR="9383" hR="21600" stAng="-5538666" swAng="-5261334"/>
                <a:close/>
              </a:path>
              <a:path fill="darkenLess" w="21600" h="21600">
                <a:moveTo>
                  <a:pt x="0" y="21600"/>
                </a:moveTo>
                <a:arcTo wR="9383" hR="21600" stAng="10800000" swAng="5400000"/>
                <a:lnTo>
                  <a:pt x="9383" y="0"/>
                </a:lnTo>
                <a:arcTo wR="9383" hR="21600" stAng="-5400000" swAng="138666"/>
                <a:lnTo>
                  <a:pt x="10251" y="93"/>
                </a:lnTo>
                <a:arcTo wR="9383" hR="21600" stAng="-5538666" swAng="-5261334"/>
                <a:close/>
              </a:path>
            </a:pathLst>
          </a:custGeom>
          <a:solidFill>
            <a:srgbClr val="bfbfbf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Выноска-облако 7"/>
          <p:cNvSpPr/>
          <p:nvPr/>
        </p:nvSpPr>
        <p:spPr>
          <a:xfrm rot="247200">
            <a:off x="6210000" y="642600"/>
            <a:ext cx="2500200" cy="995400"/>
          </a:xfrm>
          <a:prstGeom prst="cloudCallout">
            <a:avLst>
              <a:gd name="adj1" fmla="val -56083"/>
              <a:gd name="adj2" fmla="val 66356"/>
            </a:avLst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ГЛАГ.  КАКО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8"/>
          <p:cNvSpPr/>
          <p:nvPr/>
        </p:nvSpPr>
        <p:spPr>
          <a:xfrm>
            <a:off x="6643800" y="64296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Выгнутая вверх стрелка 9"/>
          <p:cNvSpPr/>
          <p:nvPr/>
        </p:nvSpPr>
        <p:spPr>
          <a:xfrm>
            <a:off x="7072200" y="785880"/>
            <a:ext cx="571680" cy="142920"/>
          </a:xfrm>
          <a:custGeom>
            <a:avLst/>
            <a:gdLst>
              <a:gd name="textAreaLeft" fmla="*/ 129600 w 571680"/>
              <a:gd name="textAreaRight" fmla="*/ 424440 w 571680"/>
              <a:gd name="textAreaTop" fmla="*/ 19080 h 142920"/>
              <a:gd name="textAreaBottom" fmla="*/ 1238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788" hR="21600" stAng="10800000" swAng="5400000"/>
                <a:lnTo>
                  <a:pt x="11138" y="0"/>
                </a:lnTo>
                <a:arcTo wR="9788" hR="21600" stAng="-5400000" swAng="3619483"/>
                <a:lnTo>
                  <a:pt x="21289" y="16200"/>
                </a:lnTo>
                <a:lnTo>
                  <a:pt x="20250" y="21600"/>
                </a:lnTo>
                <a:lnTo>
                  <a:pt x="18589" y="16200"/>
                </a:lnTo>
                <a:lnTo>
                  <a:pt x="19264" y="16200"/>
                </a:lnTo>
                <a:arcTo wR="9788" hR="21600" stAng="-1780517" swAng="-3511832"/>
                <a:lnTo>
                  <a:pt x="10462" y="51"/>
                </a:lnTo>
                <a:arcTo wR="9788" hR="21600" stAng="-5507651" swAng="-5292349"/>
                <a:close/>
              </a:path>
              <a:path fill="darkenLess" w="21600" h="21600">
                <a:moveTo>
                  <a:pt x="0" y="21600"/>
                </a:moveTo>
                <a:arcTo wR="9788" hR="21600" stAng="10800000" swAng="5400000"/>
                <a:lnTo>
                  <a:pt x="9788" y="0"/>
                </a:lnTo>
                <a:arcTo wR="9788" hR="21600" stAng="-5400000" swAng="107651"/>
                <a:lnTo>
                  <a:pt x="10462" y="51"/>
                </a:lnTo>
                <a:arcTo wR="9788" hR="21600" stAng="-5507651" swAng="-5292349"/>
                <a:close/>
              </a:path>
            </a:pathLst>
          </a:custGeom>
          <a:solidFill>
            <a:srgbClr val="40404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ая соединительная линия 11"/>
          <p:cNvSpPr/>
          <p:nvPr/>
        </p:nvSpPr>
        <p:spPr>
          <a:xfrm>
            <a:off x="6643800" y="1214280"/>
            <a:ext cx="1357200" cy="7164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ая соединительная линия 16"/>
          <p:cNvSpPr/>
          <p:nvPr/>
        </p:nvSpPr>
        <p:spPr>
          <a:xfrm>
            <a:off x="6572160" y="1285920"/>
            <a:ext cx="1428840" cy="7128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9"/>
          <p:cNvSpPr/>
          <p:nvPr/>
        </p:nvSpPr>
        <p:spPr>
          <a:xfrm>
            <a:off x="7643880" y="71424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20"/>
          <p:cNvSpPr/>
          <p:nvPr/>
        </p:nvSpPr>
        <p:spPr>
          <a:xfrm>
            <a:off x="3635280" y="1760400"/>
            <a:ext cx="1795680" cy="12564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21"/>
          <p:cNvSpPr/>
          <p:nvPr/>
        </p:nvSpPr>
        <p:spPr>
          <a:xfrm>
            <a:off x="3286080" y="2071800"/>
            <a:ext cx="257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аспространё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ераспространё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Выгнутая влево стрелка 22"/>
          <p:cNvSpPr/>
          <p:nvPr/>
        </p:nvSpPr>
        <p:spPr>
          <a:xfrm rot="1078200">
            <a:off x="1966680" y="2004840"/>
            <a:ext cx="1214280" cy="1638360"/>
          </a:xfrm>
          <a:custGeom>
            <a:avLst/>
            <a:gdLst>
              <a:gd name="textAreaLeft" fmla="*/ 162720 w 1214280"/>
              <a:gd name="textAreaRight" fmla="*/ 1051560 w 1214280"/>
              <a:gd name="textAreaTop" fmla="*/ 295560 h 1638360"/>
              <a:gd name="textAreaBottom" fmla="*/ 1190880 h 163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798" stAng="-5400000" swAng="-5400000"/>
                <a:lnTo>
                  <a:pt x="0" y="11800"/>
                </a:lnTo>
                <a:arcTo wR="21600" hR="7798" stAng="10800000" swAng="-2829627"/>
                <a:lnTo>
                  <a:pt x="14743" y="21197"/>
                </a:lnTo>
                <a:lnTo>
                  <a:pt x="21600" y="17597"/>
                </a:lnTo>
                <a:lnTo>
                  <a:pt x="14743" y="13191"/>
                </a:lnTo>
                <a:lnTo>
                  <a:pt x="14743" y="15193"/>
                </a:lnTo>
                <a:arcTo wR="21600" hR="7798" stAng="7970373" swAng="2501128"/>
                <a:lnTo>
                  <a:pt x="723" y="9799"/>
                </a:lnTo>
                <a:arcTo wR="21600" hR="7798" stAng="-10471502" swAng="5071502"/>
                <a:close/>
              </a:path>
              <a:path fill="darkenLess" w="21600" h="21600">
                <a:moveTo>
                  <a:pt x="21600" y="0"/>
                </a:moveTo>
                <a:arcTo wR="21600" hR="7798" stAng="-5400000" swAng="-5400000"/>
                <a:lnTo>
                  <a:pt x="0" y="7798"/>
                </a:lnTo>
                <a:arcTo wR="21600" hR="7798" stAng="10800000" swAng="-328498"/>
                <a:lnTo>
                  <a:pt x="723" y="9799"/>
                </a:lnTo>
                <a:arcTo wR="21600" hR="7798" stAng="-10471502" swAng="5071502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Выгнутая вправо стрелка 23"/>
          <p:cNvSpPr/>
          <p:nvPr/>
        </p:nvSpPr>
        <p:spPr>
          <a:xfrm>
            <a:off x="5857920" y="2214720"/>
            <a:ext cx="1143000" cy="1643040"/>
          </a:xfrm>
          <a:custGeom>
            <a:avLst/>
            <a:gdLst>
              <a:gd name="textAreaLeft" fmla="*/ 153000 w 1143000"/>
              <a:gd name="textAreaRight" fmla="*/ 990000 w 1143000"/>
              <a:gd name="textAreaTop" fmla="*/ 303480 h 1643040"/>
              <a:gd name="textAreaBottom" fmla="*/ 1196640 h 16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983" stAng="-5400000" swAng="5400000"/>
                <a:lnTo>
                  <a:pt x="21600" y="11740"/>
                </a:lnTo>
                <a:arcTo wR="21600" hR="7983" stAng="0" swAng="3303560"/>
                <a:lnTo>
                  <a:pt x="5400" y="21347"/>
                </a:lnTo>
                <a:lnTo>
                  <a:pt x="0" y="17844"/>
                </a:lnTo>
                <a:lnTo>
                  <a:pt x="5400" y="13834"/>
                </a:lnTo>
                <a:lnTo>
                  <a:pt x="5400" y="15712"/>
                </a:lnTo>
                <a:arcTo wR="21600" hR="7983" stAng="3303560" swAng="-2996766"/>
                <a:lnTo>
                  <a:pt x="20993" y="9861"/>
                </a:lnTo>
                <a:arcTo wR="21600" hR="7983" stAng="-306794" swAng="-5093206"/>
                <a:close/>
              </a:path>
              <a:path fill="darkenLess" w="21600" h="21600">
                <a:moveTo>
                  <a:pt x="0" y="0"/>
                </a:moveTo>
                <a:arcTo wR="21600" hR="7983" stAng="-5400000" swAng="5400000"/>
                <a:lnTo>
                  <a:pt x="21600" y="11740"/>
                </a:lnTo>
                <a:arcTo wR="21600" hR="7983" stAng="0" swAng="-306794"/>
                <a:lnTo>
                  <a:pt x="20993" y="9861"/>
                </a:lnTo>
                <a:arcTo wR="21600" hR="7983" stAng="-306794" swAng="-5093206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4"/>
          <p:cNvSpPr/>
          <p:nvPr/>
        </p:nvSpPr>
        <p:spPr>
          <a:xfrm>
            <a:off x="1571760" y="3714840"/>
            <a:ext cx="20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огласова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5"/>
          <p:cNvSpPr/>
          <p:nvPr/>
        </p:nvSpPr>
        <p:spPr>
          <a:xfrm>
            <a:off x="5072040" y="3786120"/>
            <a:ext cx="24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есогласова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трелка вниз 26"/>
          <p:cNvSpPr/>
          <p:nvPr/>
        </p:nvSpPr>
        <p:spPr>
          <a:xfrm>
            <a:off x="2357280" y="4143240"/>
            <a:ext cx="484200" cy="571680"/>
          </a:xfrm>
          <a:prstGeom prst="downArrow">
            <a:avLst>
              <a:gd name="adj1" fmla="val 50000"/>
              <a:gd name="adj2" fmla="val 5001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трелка вниз 27"/>
          <p:cNvSpPr/>
          <p:nvPr/>
        </p:nvSpPr>
        <p:spPr>
          <a:xfrm>
            <a:off x="6000840" y="4143240"/>
            <a:ext cx="484200" cy="571680"/>
          </a:xfrm>
          <a:prstGeom prst="downArrow">
            <a:avLst>
              <a:gd name="adj1" fmla="val 50000"/>
              <a:gd name="adj2" fmla="val 5001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8"/>
          <p:cNvSpPr/>
          <p:nvPr/>
        </p:nvSpPr>
        <p:spPr>
          <a:xfrm>
            <a:off x="714240" y="4857840"/>
            <a:ext cx="3357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лное прилагатель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лное причас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естоимение-прилагатель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рядковое числитель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Числительное 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од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9"/>
          <p:cNvSpPr/>
          <p:nvPr/>
        </p:nvSpPr>
        <p:spPr>
          <a:xfrm>
            <a:off x="4786200" y="4643280"/>
            <a:ext cx="4143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мя существитель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естоимение-существитель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нфинити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реч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илаг. в сравнительной степ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итяж. местоимения его, её, 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Цельные словосоч. с гл. сл. – сущ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428760" y="214200"/>
            <a:ext cx="828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пособы разграничения несогласованных определе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 дополнений, обстоятель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2"/>
          <p:cNvSpPr/>
          <p:nvPr/>
        </p:nvSpPr>
        <p:spPr>
          <a:xfrm>
            <a:off x="285840" y="1071720"/>
            <a:ext cx="871524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1) 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Многие (но не все!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есогласованные определения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огласованными определени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Ср.: кофта мамы – мамина кофта; платье в клетку – клетчатое плать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357120" y="2714760"/>
            <a:ext cx="85726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2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 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Определение           признак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1" lang="ru-RU" sz="2000" spc="-1" strike="noStrike">
                <a:solidFill>
                  <a:srgbClr val="4f6228"/>
                </a:solidFill>
                <a:latin typeface="Calibri"/>
              </a:rPr>
              <a:t>Дополнение              объе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ru-RU" sz="1800" spc="-1" strike="noStrike">
                <a:solidFill>
                  <a:srgbClr val="c00000"/>
                </a:solidFill>
                <a:latin typeface="Arial"/>
              </a:rPr>
              <a:t>Я встала в очередь за мужчиной </a:t>
            </a:r>
            <a:r>
              <a:rPr b="0" i="1" lang="ru-RU" sz="1800" spc="-1" strike="noStrike" u="sng">
                <a:solidFill>
                  <a:srgbClr val="c00000"/>
                </a:solidFill>
                <a:uFillTx/>
                <a:latin typeface="Arial"/>
              </a:rPr>
              <a:t>с чемоданом</a:t>
            </a:r>
            <a:r>
              <a:rPr b="0" i="1" lang="ru-RU" sz="1800" spc="-1" strike="noStrike">
                <a:solidFill>
                  <a:srgbClr val="c00000"/>
                </a:solidFill>
                <a:latin typeface="Arial"/>
              </a:rPr>
              <a:t>. </a:t>
            </a:r>
            <a:r>
              <a:rPr b="0" i="1" lang="ru-RU" sz="1800" spc="-1" strike="noStrike">
                <a:solidFill>
                  <a:srgbClr val="4f6228"/>
                </a:solidFill>
                <a:latin typeface="Arial"/>
              </a:rPr>
              <a:t>Мужчина шёл </a:t>
            </a:r>
            <a:r>
              <a:rPr b="0" i="1" lang="ru-RU" sz="1800" spc="-1" strike="noStrike" u="sng">
                <a:solidFill>
                  <a:srgbClr val="4f6228"/>
                </a:solidFill>
                <a:uFillTx/>
                <a:latin typeface="Arial"/>
              </a:rPr>
              <a:t>с чемоданом</a:t>
            </a:r>
            <a:r>
              <a:rPr b="0" i="1" lang="ru-RU" sz="1800" spc="-1" strike="noStrike">
                <a:solidFill>
                  <a:srgbClr val="4f6228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4f6228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4"/>
          <p:cNvSpPr/>
          <p:nvPr/>
        </p:nvSpPr>
        <p:spPr>
          <a:xfrm>
            <a:off x="428760" y="4357800"/>
            <a:ext cx="857232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3) 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Глагол        </a:t>
            </a:r>
            <a:r>
              <a:rPr b="1" lang="ru-RU" sz="2400" spc="-1" strike="noStrike" u="sng">
                <a:solidFill>
                  <a:srgbClr val="0070c0"/>
                </a:solidFill>
                <a:uFillTx/>
                <a:latin typeface="Calibri"/>
              </a:rPr>
              <a:t>сущ. с предл.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                   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Сущ.      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сущ. с предл.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                         </a:t>
            </a:r>
            <a:r>
              <a:rPr b="1" lang="ru-RU" sz="2400" spc="-1" strike="noStrike" u="sng">
                <a:solidFill>
                  <a:srgbClr val="0070c0"/>
                </a:solidFill>
                <a:uFillTx/>
                <a:latin typeface="Calibri"/>
              </a:rPr>
              <a:t>наречие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                                              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нареч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Ср.: </a:t>
            </a:r>
            <a:r>
              <a:rPr b="0" i="1" lang="ru-RU" sz="1800" spc="-1" strike="noStrike">
                <a:solidFill>
                  <a:srgbClr val="0070c0"/>
                </a:solidFill>
                <a:latin typeface="Calibri"/>
              </a:rPr>
              <a:t>Скамейка стоит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 (где?)</a:t>
            </a:r>
            <a:r>
              <a:rPr b="0" lang="ru-RU" sz="1800" spc="-1" strike="noStrike" u="sng">
                <a:solidFill>
                  <a:srgbClr val="0070c0"/>
                </a:solidFill>
                <a:uFillTx/>
                <a:latin typeface="Calibri"/>
              </a:rPr>
              <a:t> </a:t>
            </a:r>
            <a:r>
              <a:rPr b="1" i="1" lang="ru-RU" sz="1800" spc="-1" strike="noStrike" u="sng">
                <a:solidFill>
                  <a:srgbClr val="0070c0"/>
                </a:solidFill>
                <a:uFillTx/>
                <a:latin typeface="Calibri"/>
              </a:rPr>
              <a:t>у дома</a:t>
            </a:r>
            <a:r>
              <a:rPr b="1" i="1" lang="ru-RU" sz="1800" spc="-1" strike="noStrike">
                <a:solidFill>
                  <a:srgbClr val="0070c0"/>
                </a:solidFill>
                <a:latin typeface="Calibri"/>
              </a:rPr>
              <a:t>.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800" spc="-1" strike="noStrike">
                <a:solidFill>
                  <a:srgbClr val="0070c0"/>
                </a:solidFill>
                <a:latin typeface="Calibri"/>
              </a:rPr>
              <a:t>Мы вошли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 (куда?)</a:t>
            </a: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 </a:t>
            </a:r>
            <a:r>
              <a:rPr b="1" i="1" lang="ru-RU" sz="1800" spc="-1" strike="noStrike" u="sng">
                <a:solidFill>
                  <a:srgbClr val="0070c0"/>
                </a:solidFill>
                <a:uFillTx/>
                <a:latin typeface="Calibri"/>
              </a:rPr>
              <a:t>в зал</a:t>
            </a:r>
            <a:r>
              <a:rPr b="1" i="1" lang="ru-RU" sz="1800" spc="-1" strike="noStrike">
                <a:solidFill>
                  <a:srgbClr val="0070c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i="1" lang="ru-RU" sz="1800" spc="-1" strike="noStrike">
                <a:solidFill>
                  <a:srgbClr val="c00000"/>
                </a:solidFill>
                <a:latin typeface="Calibri"/>
              </a:rPr>
              <a:t> – </a:t>
            </a:r>
            <a:r>
              <a:rPr b="0" i="1" lang="ru-RU" sz="1800" spc="-1" strike="noStrike">
                <a:solidFill>
                  <a:srgbClr val="c00000"/>
                </a:solidFill>
                <a:latin typeface="Calibri"/>
              </a:rPr>
              <a:t>На скамейке (какой?) </a:t>
            </a:r>
            <a:r>
              <a:rPr b="1" i="1" lang="ru-RU" sz="1800" spc="-1" strike="noStrike" u="sng">
                <a:solidFill>
                  <a:srgbClr val="c00000"/>
                </a:solidFill>
                <a:uFillTx/>
                <a:latin typeface="Calibri"/>
              </a:rPr>
              <a:t>у дома</a:t>
            </a:r>
            <a:r>
              <a:rPr b="0" i="1" lang="ru-RU" sz="1800" spc="-1" strike="noStrike">
                <a:solidFill>
                  <a:srgbClr val="c00000"/>
                </a:solidFill>
                <a:latin typeface="Calibri"/>
              </a:rPr>
              <a:t> сидели подружки; Вход (какой?) </a:t>
            </a:r>
            <a:r>
              <a:rPr b="1" i="1" lang="ru-RU" sz="1800" spc="-1" strike="noStrike" u="sng">
                <a:solidFill>
                  <a:srgbClr val="c00000"/>
                </a:solidFill>
                <a:uFillTx/>
                <a:latin typeface="Calibri"/>
              </a:rPr>
              <a:t>в зал</a:t>
            </a:r>
            <a:r>
              <a:rPr b="0" i="1" lang="ru-RU" sz="1800" spc="-1" strike="noStrike">
                <a:solidFill>
                  <a:srgbClr val="c00000"/>
                </a:solidFill>
                <a:latin typeface="Calibri"/>
              </a:rPr>
              <a:t> был закры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Двойная стрелка вверх/вниз 5"/>
          <p:cNvSpPr/>
          <p:nvPr/>
        </p:nvSpPr>
        <p:spPr>
          <a:xfrm rot="5400000">
            <a:off x="4357440" y="1285920"/>
            <a:ext cx="214200" cy="785880"/>
          </a:xfrm>
          <a:prstGeom prst="upDownArrow">
            <a:avLst>
              <a:gd name="adj1" fmla="val 50000"/>
              <a:gd name="adj2" fmla="val 5002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трелка вправо с вырезом 6"/>
          <p:cNvSpPr/>
          <p:nvPr/>
        </p:nvSpPr>
        <p:spPr>
          <a:xfrm>
            <a:off x="2428920" y="2928960"/>
            <a:ext cx="500040" cy="142920"/>
          </a:xfrm>
          <a:custGeom>
            <a:avLst/>
            <a:gdLst>
              <a:gd name="textAreaLeft" fmla="*/ 35640 w 500040"/>
              <a:gd name="textAreaRight" fmla="*/ 464400 w 50004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514" y="5400"/>
                </a:ln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18514" y="16200"/>
                </a:lnTo>
                <a:lnTo>
                  <a:pt x="0" y="16200"/>
                </a:lnTo>
                <a:lnTo>
                  <a:pt x="154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Стрелка вправо с вырезом 7"/>
          <p:cNvSpPr/>
          <p:nvPr/>
        </p:nvSpPr>
        <p:spPr>
          <a:xfrm>
            <a:off x="6786720" y="2928960"/>
            <a:ext cx="500040" cy="142920"/>
          </a:xfrm>
          <a:custGeom>
            <a:avLst/>
            <a:gdLst>
              <a:gd name="textAreaLeft" fmla="*/ 35640 w 500040"/>
              <a:gd name="textAreaRight" fmla="*/ 464400 w 50004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514" y="5400"/>
                </a:ln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18514" y="16200"/>
                </a:lnTo>
                <a:lnTo>
                  <a:pt x="0" y="16200"/>
                </a:lnTo>
                <a:lnTo>
                  <a:pt x="154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трелка вправо с вырезом 8"/>
          <p:cNvSpPr/>
          <p:nvPr/>
        </p:nvSpPr>
        <p:spPr>
          <a:xfrm rot="1786800">
            <a:off x="3574800" y="3185640"/>
            <a:ext cx="500040" cy="142920"/>
          </a:xfrm>
          <a:custGeom>
            <a:avLst/>
            <a:gdLst>
              <a:gd name="textAreaLeft" fmla="*/ 35640 w 500040"/>
              <a:gd name="textAreaRight" fmla="*/ 464400 w 50004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514" y="5400"/>
                </a:ln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18514" y="16200"/>
                </a:lnTo>
                <a:lnTo>
                  <a:pt x="0" y="16200"/>
                </a:lnTo>
                <a:lnTo>
                  <a:pt x="154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трелка вправо с вырезом 9"/>
          <p:cNvSpPr/>
          <p:nvPr/>
        </p:nvSpPr>
        <p:spPr>
          <a:xfrm rot="2678400">
            <a:off x="7764120" y="3155760"/>
            <a:ext cx="500040" cy="142560"/>
          </a:xfrm>
          <a:custGeom>
            <a:avLst/>
            <a:gdLst>
              <a:gd name="textAreaLeft" fmla="*/ 35640 w 500040"/>
              <a:gd name="textAreaRight" fmla="*/ 464400 w 500040"/>
              <a:gd name="textAreaTop" fmla="*/ 35640 h 142560"/>
              <a:gd name="textAreaBottom" fmla="*/ 106920 h 142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514" y="5400"/>
                </a:ln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18514" y="16200"/>
                </a:lnTo>
                <a:lnTo>
                  <a:pt x="0" y="16200"/>
                </a:lnTo>
                <a:lnTo>
                  <a:pt x="154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0"/>
          <p:cNvSpPr/>
          <p:nvPr/>
        </p:nvSpPr>
        <p:spPr>
          <a:xfrm>
            <a:off x="3071880" y="3143160"/>
            <a:ext cx="57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ущ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1"/>
          <p:cNvSpPr/>
          <p:nvPr/>
        </p:nvSpPr>
        <p:spPr>
          <a:xfrm>
            <a:off x="6643800" y="3143160"/>
            <a:ext cx="571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ла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2"/>
          <p:cNvSpPr/>
          <p:nvPr/>
        </p:nvSpPr>
        <p:spPr>
          <a:xfrm>
            <a:off x="1000080" y="37148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Выгнутая вверх стрелка 13"/>
          <p:cNvSpPr/>
          <p:nvPr/>
        </p:nvSpPr>
        <p:spPr>
          <a:xfrm>
            <a:off x="1428840" y="3857760"/>
            <a:ext cx="928440" cy="214200"/>
          </a:xfrm>
          <a:custGeom>
            <a:avLst/>
            <a:gdLst>
              <a:gd name="textAreaLeft" fmla="*/ 212040 w 928440"/>
              <a:gd name="textAreaRight" fmla="*/ 689760 w 928440"/>
              <a:gd name="textAreaTop" fmla="*/ 28440 h 214200"/>
              <a:gd name="textAreaBottom" fmla="*/ 1857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866" hR="21600" stAng="10800000" swAng="5400000"/>
                <a:lnTo>
                  <a:pt x="11112" y="0"/>
                </a:lnTo>
                <a:arcTo wR="9866" hR="21600" stAng="-5400000" swAng="3631197"/>
                <a:lnTo>
                  <a:pt x="21287" y="16200"/>
                </a:lnTo>
                <a:lnTo>
                  <a:pt x="20354" y="21600"/>
                </a:lnTo>
                <a:lnTo>
                  <a:pt x="18795" y="16200"/>
                </a:lnTo>
                <a:lnTo>
                  <a:pt x="19418" y="16200"/>
                </a:lnTo>
                <a:arcTo wR="9866" hR="21600" stAng="-1768803" swAng="-3531873"/>
                <a:lnTo>
                  <a:pt x="10489" y="43"/>
                </a:lnTo>
                <a:arcTo wR="9866" hR="21600" stAng="-5499324" swAng="-5300676"/>
                <a:close/>
              </a:path>
              <a:path fill="darkenLess" w="21600" h="21600">
                <a:moveTo>
                  <a:pt x="0" y="21600"/>
                </a:moveTo>
                <a:arcTo wR="9866" hR="21600" stAng="10800000" swAng="5400000"/>
                <a:lnTo>
                  <a:pt x="9866" y="0"/>
                </a:lnTo>
                <a:arcTo wR="9866" hR="21600" stAng="-5400000" swAng="99324"/>
                <a:lnTo>
                  <a:pt x="10489" y="43"/>
                </a:lnTo>
                <a:arcTo wR="9866" hR="21600" stAng="-5499324" swAng="-5300676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4"/>
          <p:cNvSpPr/>
          <p:nvPr/>
        </p:nvSpPr>
        <p:spPr>
          <a:xfrm>
            <a:off x="5572080" y="378612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Выгнутая вверх стрелка 15"/>
          <p:cNvSpPr/>
          <p:nvPr/>
        </p:nvSpPr>
        <p:spPr>
          <a:xfrm>
            <a:off x="5857920" y="3857760"/>
            <a:ext cx="928800" cy="214200"/>
          </a:xfrm>
          <a:custGeom>
            <a:avLst/>
            <a:gdLst>
              <a:gd name="textAreaLeft" fmla="*/ 212040 w 928800"/>
              <a:gd name="textAreaRight" fmla="*/ 690120 w 928800"/>
              <a:gd name="textAreaTop" fmla="*/ 28440 h 214200"/>
              <a:gd name="textAreaBottom" fmla="*/ 1857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866" hR="21600" stAng="10800000" swAng="5400000"/>
                <a:lnTo>
                  <a:pt x="11112" y="0"/>
                </a:lnTo>
                <a:arcTo wR="9866" hR="21600" stAng="-5400000" swAng="3631197"/>
                <a:lnTo>
                  <a:pt x="21287" y="16200"/>
                </a:lnTo>
                <a:lnTo>
                  <a:pt x="20354" y="21600"/>
                </a:lnTo>
                <a:lnTo>
                  <a:pt x="18795" y="16200"/>
                </a:lnTo>
                <a:lnTo>
                  <a:pt x="19418" y="16200"/>
                </a:lnTo>
                <a:arcTo wR="9866" hR="21600" stAng="-1768803" swAng="-3531873"/>
                <a:lnTo>
                  <a:pt x="10489" y="43"/>
                </a:lnTo>
                <a:arcTo wR="9866" hR="21600" stAng="-5499324" swAng="-5300676"/>
                <a:close/>
              </a:path>
              <a:path fill="darkenLess" w="21600" h="21600">
                <a:moveTo>
                  <a:pt x="0" y="21600"/>
                </a:moveTo>
                <a:arcTo wR="9866" hR="21600" stAng="10800000" swAng="5400000"/>
                <a:lnTo>
                  <a:pt x="9866" y="0"/>
                </a:lnTo>
                <a:arcTo wR="9866" hR="21600" stAng="-5400000" swAng="99324"/>
                <a:lnTo>
                  <a:pt x="10489" y="43"/>
                </a:lnTo>
                <a:arcTo wR="9866" hR="21600" stAng="-5499324" swAng="-5300676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"/>
          <p:cNvSpPr/>
          <p:nvPr/>
        </p:nvSpPr>
        <p:spPr>
          <a:xfrm>
            <a:off x="428760" y="242640"/>
            <a:ext cx="8429400" cy="59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  <a:ea typeface="Times New Roman"/>
              </a:rPr>
              <a:t>Цели уро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Знать: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условия обособления определ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Calibri"/>
                <a:ea typeface="Times New Roman"/>
              </a:rPr>
              <a:t>Уметь:</a:t>
            </a:r>
            <a:r>
              <a:rPr b="0" lang="ru-RU" sz="3600" spc="-1" strike="noStrike">
                <a:solidFill>
                  <a:srgbClr val="00b050"/>
                </a:solidFill>
                <a:latin typeface="Calibri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авить знаки препинания в предложениях с обособленными определения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  <a:ea typeface="Times New Roman"/>
              </a:rPr>
              <a:t>Повторить:</a:t>
            </a:r>
            <a:r>
              <a:rPr b="0" lang="ru-RU" sz="36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значение понятий «определение», «обособление», 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26T21:03:57Z</dcterms:created>
  <dc:creator>Comp</dc:creator>
  <dc:description/>
  <dc:language>en-US</dc:language>
  <cp:lastModifiedBy>Comp</cp:lastModifiedBy>
  <dcterms:modified xsi:type="dcterms:W3CDTF">2017-02-27T18:09:06Z</dcterms:modified>
  <cp:revision>11</cp:revision>
  <dc:subject/>
  <dc:title>Слайд 1</dc:title>
</cp:coreProperties>
</file>