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DDF-AB12-41DC-B725-B0F036DF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A16-74C5-4D18-AF40-B7830665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352-B0FA-4F7E-B5CA-30E7DCD1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4D1-3E48-4B45-A40F-92DFE822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3D79-D58C-4760-ACE4-44184C16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CBD9-9FC5-4E31-8D02-2AA5AC97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9D73-C8B1-4FC6-B0FD-B335906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ACBA-F2F8-4BCB-98B3-2DCAC866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C5C0-2CCF-439C-B566-B227D5FF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7616-6865-454F-B1F4-B9D9B395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821D-A6BA-40F1-8741-70F187F6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DCC-74AA-4E9D-9741-4563FD47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791A-74DB-4E85-8DE0-C446A7C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206C-20D7-4063-ABC4-37A3EDFE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F3E9-6E4F-4623-9A4C-67F2C2B3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594F-91E2-4DFC-BD15-85083DA4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E7E9-008F-4D37-ABAA-DF39E01E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4030-C4B7-41AB-80D2-F52B4B5E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36E6-8641-48C4-81F4-5AB19D7F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B319-016E-4A75-9CCE-A6698019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0C5D-1732-4938-8130-10996A0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93B5-17F3-49D5-8ADD-45210BFF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89A-46D9-4A14-A6F2-D0C901C4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5224-791B-4741-BDE6-CA585D3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3B1C-8BBA-4F2D-BE78-50959A71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F7D3-67C1-4500-A213-22EA96CD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CE2C-1D5D-408C-9A28-9E134268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E5AA-86BF-4F03-8F71-4B8126D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ACB3-E6E2-49B7-B10A-4E4700E1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98CA-E845-4843-A6D1-E081F161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4D8-37DB-4033-9EB1-A8C07991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C4B-E178-4712-9526-2E17CCDF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A21-0F65-44AB-927C-6E9511A8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6A1-FECD-409C-905F-000662B7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174-70DC-4603-9EE1-C00FC672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AE3-4D99-4418-9BEB-7C5C278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F460-2F54-4EF0-8D9A-D884167F14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5D0C-CF96-495B-B057-09634D869C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6A50-8EAF-467E-AD99-5EA15E87A0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5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517"/>
          <p:cNvPicPr/>
          <p:nvPr/>
        </p:nvPicPr>
        <p:blipFill>
          <a:blip r:embed="rId2"/>
          <a:stretch/>
        </p:blipFill>
        <p:spPr>
          <a:xfrm>
            <a:off x="395280" y="0"/>
            <a:ext cx="874872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538"/>
          <p:cNvPicPr/>
          <p:nvPr/>
        </p:nvPicPr>
        <p:blipFill>
          <a:blip r:embed="rId3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526"/>
          <p:cNvPicPr/>
          <p:nvPr/>
        </p:nvPicPr>
        <p:blipFill>
          <a:blip r:embed="rId4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553"/>
          <p:cNvPicPr/>
          <p:nvPr/>
        </p:nvPicPr>
        <p:blipFill>
          <a:blip r:embed="rId5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503"/>
          <p:cNvPicPr/>
          <p:nvPr/>
        </p:nvPicPr>
        <p:blipFill>
          <a:blip r:embed="rId6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506"/>
          <p:cNvPicPr/>
          <p:nvPr/>
        </p:nvPicPr>
        <p:blipFill>
          <a:blip r:embed="rId7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611280" y="50324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11.Ноябрь - На тройке.mp3" descr=""/>
          <p:cNvPicPr/>
          <p:nvPr/>
        </p:nvPicPr>
        <p:blipFill>
          <a:blip r:embed="rId8"/>
          <a:stretch/>
        </p:blipFill>
        <p:spPr>
          <a:xfrm>
            <a:off x="121428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шест1"/>
          <p:cNvPicPr/>
          <p:nvPr/>
        </p:nvPicPr>
        <p:blipFill>
          <a:blip r:embed="rId1"/>
          <a:stretch/>
        </p:blipFill>
        <p:spPr>
          <a:xfrm>
            <a:off x="5076720" y="115920"/>
            <a:ext cx="2576520" cy="38386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837720" y="1413000"/>
            <a:ext cx="235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00"/>
                </a:solidFill>
                <a:latin typeface="Informal Roman"/>
              </a:rPr>
              <a:t>ш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09400" y="4508640"/>
            <a:ext cx="27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00"/>
                </a:solidFill>
                <a:latin typeface="Informal Roman"/>
              </a:rPr>
              <a:t>шест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888160" y="436572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dd1"/>
                </a:solidFill>
                <a:latin typeface="Times New Roman"/>
              </a:rPr>
              <a:t>мел - мель</a:t>
            </a:r>
            <a:endParaRPr b="1" lang="en-US" sz="6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5" name="Picture 3" descr="мел"/>
          <p:cNvPicPr/>
          <p:nvPr/>
        </p:nvPicPr>
        <p:blipFill>
          <a:blip r:embed="rId1"/>
          <a:stretch/>
        </p:blipFill>
        <p:spPr>
          <a:xfrm>
            <a:off x="250920" y="1844640"/>
            <a:ext cx="4176720" cy="355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мель"/>
          <p:cNvPicPr/>
          <p:nvPr/>
        </p:nvPicPr>
        <p:blipFill>
          <a:blip r:embed="rId2"/>
          <a:stretch/>
        </p:blipFill>
        <p:spPr>
          <a:xfrm>
            <a:off x="4572000" y="1844640"/>
            <a:ext cx="43560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dd1"/>
                </a:solidFill>
                <a:latin typeface="Times New Roman"/>
              </a:rPr>
              <a:t>хор - хорь</a:t>
            </a:r>
            <a:endParaRPr b="1" lang="en-US" sz="6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8" name="Picture 3" descr="хор"/>
          <p:cNvPicPr/>
          <p:nvPr/>
        </p:nvPicPr>
        <p:blipFill>
          <a:blip r:embed="rId1"/>
          <a:stretch/>
        </p:blipFill>
        <p:spPr>
          <a:xfrm>
            <a:off x="179280" y="2060640"/>
            <a:ext cx="4176720" cy="3744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хорь"/>
          <p:cNvPicPr/>
          <p:nvPr/>
        </p:nvPicPr>
        <p:blipFill>
          <a:blip r:embed="rId2"/>
          <a:stretch/>
        </p:blipFill>
        <p:spPr>
          <a:xfrm>
            <a:off x="4643280" y="2060640"/>
            <a:ext cx="43214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dd1"/>
                </a:solidFill>
                <a:latin typeface="Times New Roman"/>
              </a:rPr>
              <a:t>пыл - пыль</a:t>
            </a:r>
            <a:endParaRPr b="1" lang="en-US" sz="6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ыл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- сильный жар от огн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ы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ельчайшие сухие частицы, носящиеся в воздухе или скапливающиеся на поверхности чего-нибуд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4716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ru-RU" sz="4800" spc="-1" strike="noStrike">
                <a:solidFill>
                  <a:srgbClr val="ffffff"/>
                </a:solidFill>
                <a:latin typeface="Times New Roman"/>
              </a:rPr>
              <a:t>На опушку леса вышел лось. Под берёзами росли мухоморы.  Лось подошёл и начал их жевать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611280" y="981000"/>
            <a:ext cx="79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ь, -, ь, ь, -, ь, ь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</a:rPr>
              <a:t>Теряют золотой наряд берёзы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Прямая соединительная линия 4"/>
          <p:cNvSpPr/>
          <p:nvPr/>
        </p:nvSpPr>
        <p:spPr>
          <a:xfrm>
            <a:off x="976320" y="3570120"/>
            <a:ext cx="428760" cy="180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Прямая соединительная линия 6"/>
          <p:cNvSpPr/>
          <p:nvPr/>
        </p:nvSpPr>
        <p:spPr>
          <a:xfrm>
            <a:off x="7648560" y="3570120"/>
            <a:ext cx="428760" cy="180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Прямая соединительная линия 7"/>
          <p:cNvSpPr/>
          <p:nvPr/>
        </p:nvSpPr>
        <p:spPr>
          <a:xfrm>
            <a:off x="3736800" y="4498920"/>
            <a:ext cx="428760" cy="180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Прямая соединительная линия 8"/>
          <p:cNvSpPr/>
          <p:nvPr/>
        </p:nvSpPr>
        <p:spPr>
          <a:xfrm>
            <a:off x="1695600" y="3570120"/>
            <a:ext cx="428400" cy="180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Прямая соединительная линия 9"/>
          <p:cNvSpPr/>
          <p:nvPr/>
        </p:nvSpPr>
        <p:spPr>
          <a:xfrm>
            <a:off x="4529160" y="4498920"/>
            <a:ext cx="428760" cy="1800"/>
          </a:xfrm>
          <a:prstGeom prst="line">
            <a:avLst/>
          </a:prstGeom>
          <a:ln w="69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3"/>
          <p:cNvSpPr/>
          <p:nvPr/>
        </p:nvSpPr>
        <p:spPr>
          <a:xfrm>
            <a:off x="3571920" y="2762280"/>
            <a:ext cx="825480" cy="2023920"/>
          </a:xfrm>
          <a:custGeom>
            <a:avLst/>
            <a:gdLst>
              <a:gd name="textAreaLeft" fmla="*/ 0 w 825480"/>
              <a:gd name="textAreaRight" fmla="*/ 825840 w 825480"/>
              <a:gd name="textAreaTop" fmla="*/ 0 h 2023920"/>
              <a:gd name="textAreaBottom" fmla="*/ 2024280 h 2023920"/>
            </a:gdLst>
            <a:ahLst/>
            <a:rect l="textAreaLeft" t="textAreaTop" r="textAreaRight" b="textAreaBottom"/>
            <a:pathLst>
              <a:path w="520" h="1275">
                <a:moveTo>
                  <a:pt x="189" y="730"/>
                </a:moveTo>
                <a:cubicBezTo>
                  <a:pt x="214" y="719"/>
                  <a:pt x="287" y="660"/>
                  <a:pt x="339" y="664"/>
                </a:cubicBezTo>
                <a:cubicBezTo>
                  <a:pt x="391" y="668"/>
                  <a:pt x="482" y="686"/>
                  <a:pt x="501" y="754"/>
                </a:cubicBezTo>
                <a:cubicBezTo>
                  <a:pt x="520" y="822"/>
                  <a:pt x="503" y="986"/>
                  <a:pt x="453" y="1072"/>
                </a:cubicBezTo>
                <a:cubicBezTo>
                  <a:pt x="403" y="1158"/>
                  <a:pt x="276" y="1265"/>
                  <a:pt x="201" y="1270"/>
                </a:cubicBezTo>
                <a:cubicBezTo>
                  <a:pt x="126" y="1275"/>
                  <a:pt x="6" y="1203"/>
                  <a:pt x="3" y="1102"/>
                </a:cubicBezTo>
                <a:cubicBezTo>
                  <a:pt x="0" y="1001"/>
                  <a:pt x="108" y="845"/>
                  <a:pt x="185" y="661"/>
                </a:cubicBezTo>
                <a:cubicBezTo>
                  <a:pt x="262" y="477"/>
                  <a:pt x="407" y="138"/>
                  <a:pt x="465" y="0"/>
                </a:cubicBezTo>
              </a:path>
            </a:pathLst>
          </a:custGeom>
          <a:noFill/>
          <a:ln w="1522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80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c050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AutoShape 9"/>
          <p:cNvSpPr/>
          <p:nvPr/>
        </p:nvSpPr>
        <p:spPr>
          <a:xfrm>
            <a:off x="4214880" y="26035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16"/>
          <p:cNvSpPr/>
          <p:nvPr/>
        </p:nvSpPr>
        <p:spPr>
          <a:xfrm rot="12875400">
            <a:off x="4311360" y="270144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0.00556 C -0.02916 0.05 -0.09253 0.21852 -0.1026 0.27269 C -0.11267 0.32685 -0.08819 0.32593 -0.07552 0.32986 C -0.06284 0.3338 -0.03906 0.3169 -0.02639 0.29583 C -0.01371 0.27477 -0.00086 0.225 0.0007 0.20301 C 0.00226 0.18079 -0.00468 0.16597 -0.01684 0.16273 C -0.02899 0.15949 -0.06076 0.17963 -0.07239 0.18403 E">
                                      <p:cBhvr>
                                        <p:cTn id="90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Times New Roman"/>
              </a:rPr>
              <a:t>сентябрь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Times New Roman"/>
              </a:rPr>
              <a:t>октябрь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Times New Roman"/>
              </a:rPr>
              <a:t>ноябрь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258920" y="26028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Сентябрь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девятый месяц календарного год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С.Ожегов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5084640"/>
            <a:ext cx="65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0004"/>
          <p:cNvPicPr/>
          <p:nvPr/>
        </p:nvPicPr>
        <p:blipFill>
          <a:blip r:embed="rId1"/>
          <a:stretch/>
        </p:blipFill>
        <p:spPr>
          <a:xfrm>
            <a:off x="3714840" y="270360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Отлёт птиц"/>
          <p:cNvPicPr/>
          <p:nvPr/>
        </p:nvPicPr>
        <p:blipFill>
          <a:blip r:embed="rId2"/>
          <a:stretch/>
        </p:blipFill>
        <p:spPr>
          <a:xfrm>
            <a:off x="1908000" y="2349360"/>
            <a:ext cx="5791320" cy="367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bird10"/>
          <p:cNvPicPr/>
          <p:nvPr/>
        </p:nvPicPr>
        <p:blipFill>
          <a:blip r:embed="rId3"/>
          <a:stretch/>
        </p:blipFill>
        <p:spPr>
          <a:xfrm>
            <a:off x="7596360" y="479736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bird10"/>
          <p:cNvPicPr/>
          <p:nvPr/>
        </p:nvPicPr>
        <p:blipFill>
          <a:blip r:embed="rId4"/>
          <a:stretch/>
        </p:blipFill>
        <p:spPr>
          <a:xfrm>
            <a:off x="7905600" y="4076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bird10"/>
          <p:cNvPicPr/>
          <p:nvPr/>
        </p:nvPicPr>
        <p:blipFill>
          <a:blip r:embed="rId5"/>
          <a:stretch/>
        </p:blipFill>
        <p:spPr>
          <a:xfrm>
            <a:off x="7667640" y="404640"/>
            <a:ext cx="123840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765000"/>
            <a:ext cx="93297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Октябрь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– десятый месяц календарного года (С.Ожегов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" descr="дорога"/>
          <p:cNvPicPr/>
          <p:nvPr/>
        </p:nvPicPr>
        <p:blipFill>
          <a:blip r:embed="rId1"/>
          <a:stretch/>
        </p:blipFill>
        <p:spPr>
          <a:xfrm>
            <a:off x="1332000" y="2492280"/>
            <a:ext cx="6192720" cy="415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42960" y="35712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Ноябрь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одиннадцатый месяц календарного года (С.Ожегов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135689"/>
          <p:cNvPicPr/>
          <p:nvPr/>
        </p:nvPicPr>
        <p:blipFill>
          <a:blip r:embed="rId1"/>
          <a:stretch/>
        </p:blipFill>
        <p:spPr>
          <a:xfrm>
            <a:off x="1979640" y="2484360"/>
            <a:ext cx="6257880" cy="43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424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291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ОС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ОС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ОС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ОС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ОС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ЛОСЬ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8:39:48Z</dcterms:created>
  <dc:creator>Admin</dc:creator>
  <dc:description/>
  <dc:language>en-US</dc:language>
  <cp:lastModifiedBy>Роман Мартьянов</cp:lastModifiedBy>
  <dcterms:modified xsi:type="dcterms:W3CDTF">2016-10-03T18:01:51Z</dcterms:modified>
  <cp:revision>34</cp:revision>
  <dc:subject/>
  <dc:title>Слайд 1</dc:title>
</cp:coreProperties>
</file>